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26FD-617E-4310-AAE5-F8C1EF601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A7E6-64A9-4B76-8BF8-FCEDF4FBB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BEE4-9A40-4D7E-A8AC-9A8EA7C44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21F4-4984-481F-8720-485AEF5CA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E53B-7EB4-47DF-B519-9F809FBE7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4985-6A7F-4140-A036-36AAE932E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00F5-C3B3-4376-8BCD-E906967A7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AD30-90F3-459A-A6D0-BC763A9B3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878C-839D-439D-8D6C-2ACF45713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D1FF-90F8-4ADB-A352-E8678B3AC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0FB5-F169-41FE-A9D8-F0B9F55F1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30DC-C7B4-487C-95B9-D066832F1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B73A-5F2D-43BE-9D6A-531617EB3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39CD-EC20-4ACF-B70F-CA9F80FD2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9ECB-ED96-4F37-BF93-A2C8F0CFE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F810-1B08-42DF-B57B-53E012112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4D47-D723-42FA-84C5-8FAF469EC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49F4-430C-4E36-B12D-7BDD26614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CB08-8E73-4FB0-A454-FDC8BFD71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F9B5-399B-4884-A016-6C5CF5BE8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03CB-1306-4483-8C5F-047B5CAEF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72C6-9504-49D2-BA70-4CFE24F2D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9B10-4A38-4B5B-BB2B-CC7EC4CBC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D4CA-2630-4847-A0DF-E080428BF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9E43-0EFE-4B6E-8E91-CB7515BE3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2B5B-9348-4FE0-B2D8-43A4A57CC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6902-F66D-418B-963F-077D3EF91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2A2-F508-4909-BB53-2DFF7B86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C94-8E18-4011-A3C1-8F715FFD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0DF-8A69-4D0B-BA68-56069192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2B5A-5473-453D-B45D-13848600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2A23-8FA3-4B6D-B850-89620E1A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F861-8701-46B9-A092-A684EC10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EDCF-5F55-4911-B4F5-DF61E16A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BE6F-088F-4DB9-85D7-FB75D528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BDD6-603D-4338-8A3D-0731A856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4B8F-1CE9-4603-90A7-CDF6B178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226B-21E0-490D-BAF1-8B5098E7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D86-A482-4112-9EA3-32F05968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94D0-A46D-4E83-9E89-8A6F1DD0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9021-6C3A-4442-BB86-E84A1A33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69FE-10F2-456A-834B-21C39570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DD43-FD83-4B19-A032-950E87CA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16CF-1FF5-49A7-9AB7-2FFD89EF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76A-E5A3-48FF-950B-90140B3C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C09-4550-41B6-82F1-655CC0C1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508-7DE7-4EB7-A34C-46F8E00A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369-E231-445C-9528-6C6135C4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34F-D61E-49BF-8F67-8DE104D8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048-D5A3-4C83-9227-763FB5B7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D92-08CA-45E7-A017-ED3EF66A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ECA3-DBA6-494B-A275-338D25D4D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70A6-8040-4739-ABE4-ABCA1E0F1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8000" y="265248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3366"/>
                </a:solidFill>
                <a:latin typeface="Bernard MT Condensed"/>
              </a:rPr>
              <a:t>            </a:t>
            </a:r>
            <a:r>
              <a:rPr b="0" lang="en-US" sz="6900" spc="-1" strike="noStrike">
                <a:solidFill>
                  <a:srgbClr val="003366"/>
                </a:solidFill>
                <a:latin typeface="Bernard MT Condensed"/>
              </a:rPr>
              <a:t>Complete</a:t>
            </a:r>
            <a:r>
              <a:rPr b="0" lang="en-US" sz="4400" spc="-1" strike="noStrike">
                <a:solidFill>
                  <a:srgbClr val="003366"/>
                </a:solidFill>
                <a:latin typeface="Bernard MT Condensed"/>
              </a:rPr>
              <a:t> and                    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Bernard MT Condensed"/>
              </a:rPr>
              <a:t>                 </a:t>
            </a:r>
            <a:r>
              <a:rPr b="0" lang="en-US" sz="6900" spc="-1" strike="noStrike">
                <a:solidFill>
                  <a:srgbClr val="003366"/>
                </a:solidFill>
                <a:latin typeface="Bernard MT Condensed"/>
              </a:rPr>
              <a:t>Incomplete Metamorphosis</a:t>
            </a:r>
            <a:endParaRPr b="0" lang="en-US" sz="6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0574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Let’s look at the difference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2024_a_bugs"/>
          <p:cNvPicPr/>
          <p:nvPr/>
        </p:nvPicPr>
        <p:blipFill>
          <a:blip r:embed="rId1"/>
          <a:stretch/>
        </p:blipFill>
        <p:spPr>
          <a:xfrm>
            <a:off x="838080" y="1616040"/>
            <a:ext cx="25909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3366"/>
                </a:solidFill>
                <a:latin typeface="Bernard MT Condensed"/>
              </a:rPr>
              <a:t>4 STAGES OF</a:t>
            </a:r>
            <a:br>
              <a:rPr sz="5200"/>
            </a:br>
            <a:r>
              <a:rPr b="0" lang="en-US" sz="5200" spc="-1" strike="noStrike">
                <a:solidFill>
                  <a:srgbClr val="003366"/>
                </a:solidFill>
                <a:latin typeface="Bernard MT Condensed"/>
              </a:rPr>
              <a:t>COMPLETE METAMORPHOSIS</a:t>
            </a:r>
            <a:endParaRPr b="0" lang="en-US" sz="5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960" y="2215800"/>
            <a:ext cx="803088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flycycle"/>
          <p:cNvPicPr/>
          <p:nvPr/>
        </p:nvPicPr>
        <p:blipFill>
          <a:blip r:embed="rId1"/>
          <a:stretch/>
        </p:blipFill>
        <p:spPr>
          <a:xfrm>
            <a:off x="3827520" y="2397240"/>
            <a:ext cx="3639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8337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6699"/>
                </a:solidFill>
                <a:latin typeface="Arial"/>
              </a:rPr>
              <a:t>EG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emale lays eg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flycycle"/>
          <p:cNvPicPr/>
          <p:nvPr/>
        </p:nvPicPr>
        <p:blipFill>
          <a:blip r:embed="rId1"/>
          <a:stretch/>
        </p:blipFill>
        <p:spPr>
          <a:xfrm>
            <a:off x="6019920" y="533520"/>
            <a:ext cx="2630520" cy="229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7772400" y="609480"/>
          <a:ext cx="990720" cy="121932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a3123"/>
                      </a:solidFill>
                    </a:lnL>
                    <a:lnR w="38160">
                      <a:solidFill>
                        <a:srgbClr val="9a3123"/>
                      </a:solidFill>
                    </a:lnR>
                    <a:lnT w="38160">
                      <a:solidFill>
                        <a:srgbClr val="9a3123"/>
                      </a:solidFill>
                    </a:lnT>
                    <a:lnB w="38160">
                      <a:solidFill>
                        <a:srgbClr val="9a312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99"/>
                </a:solidFill>
                <a:latin typeface="Arial"/>
              </a:rPr>
              <a:t>LARV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arva hatch from the eggs. They do not look like adult insects. They usually have a worm-like shap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aterpillars, maggots, and grubs are all just the larval stages of insects. Larvae molt their skin several times and they grow slightly larg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flycycle"/>
          <p:cNvPicPr/>
          <p:nvPr/>
        </p:nvPicPr>
        <p:blipFill>
          <a:blip r:embed="rId1"/>
          <a:stretch/>
        </p:blipFill>
        <p:spPr>
          <a:xfrm>
            <a:off x="6208560" y="228600"/>
            <a:ext cx="2554560" cy="21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7086600" y="1600200"/>
          <a:ext cx="1600200" cy="68580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a3123"/>
                      </a:solidFill>
                    </a:lnL>
                    <a:lnR w="38160">
                      <a:solidFill>
                        <a:srgbClr val="9a3123"/>
                      </a:solidFill>
                    </a:lnR>
                    <a:lnT w="38160">
                      <a:solidFill>
                        <a:srgbClr val="9a3123"/>
                      </a:solidFill>
                    </a:lnT>
                    <a:lnB w="38160">
                      <a:solidFill>
                        <a:srgbClr val="9a312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33160" y="6858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99"/>
                </a:solidFill>
                <a:latin typeface="Arial"/>
              </a:rPr>
              <a:t>PUP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va make cocoons around themselv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va don't eat while they're inside their coco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bodies develop into an adult shape with wings, legs, internal organ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change takes anywhere from 4 days to many month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flycycle"/>
          <p:cNvPicPr/>
          <p:nvPr/>
        </p:nvPicPr>
        <p:blipFill>
          <a:blip r:embed="rId1"/>
          <a:stretch/>
        </p:blipFill>
        <p:spPr>
          <a:xfrm>
            <a:off x="6208560" y="223920"/>
            <a:ext cx="240192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6095880" y="1066680"/>
          <a:ext cx="1067040" cy="685800"/>
        </p:xfrm>
        <a:graphic>
          <a:graphicData uri="http://schemas.openxmlformats.org/drawingml/2006/table">
            <a:tbl>
              <a:tblPr/>
              <a:tblGrid>
                <a:gridCol w="10670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a3123"/>
                      </a:solidFill>
                    </a:lnL>
                    <a:lnR w="38160">
                      <a:solidFill>
                        <a:srgbClr val="9a3123"/>
                      </a:solidFill>
                    </a:lnR>
                    <a:lnT w="38160">
                      <a:solidFill>
                        <a:srgbClr val="9a3123"/>
                      </a:solidFill>
                    </a:lnT>
                    <a:lnB w="38160">
                      <a:solidFill>
                        <a:srgbClr val="9a312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6699"/>
                </a:solidFill>
                <a:latin typeface="Arial"/>
              </a:rPr>
              <a:t>ADUL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ide the cocoon, the larvae change into adults. After a period of time, the adult breaks out of the coco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flycycle"/>
          <p:cNvPicPr/>
          <p:nvPr/>
        </p:nvPicPr>
        <p:blipFill>
          <a:blip r:embed="rId1"/>
          <a:stretch/>
        </p:blipFill>
        <p:spPr>
          <a:xfrm>
            <a:off x="6361200" y="152280"/>
            <a:ext cx="2401920" cy="20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6705720" y="152280"/>
          <a:ext cx="1371600" cy="9907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a3123"/>
                      </a:solidFill>
                    </a:lnL>
                    <a:lnR w="38160">
                      <a:solidFill>
                        <a:srgbClr val="9a3123"/>
                      </a:solidFill>
                    </a:lnR>
                    <a:lnT w="38160">
                      <a:solidFill>
                        <a:srgbClr val="9a3123"/>
                      </a:solidFill>
                    </a:lnT>
                    <a:lnB w="38160">
                      <a:solidFill>
                        <a:srgbClr val="9a312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ABOUT FROGS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11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Verdana"/>
              </a:rPr>
              <a:t>Frogs undergo a different type of COMPLETE METAMORPHOSI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Verdana"/>
              </a:rPr>
              <a:t>From the egg emerges a tadpole, which lives in the water, breathes with gills, and has a tai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Verdana"/>
              </a:rPr>
              <a:t>As the tadpole grows, lungs and legs form, and the gills and tail are absorbed into the body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Verdana"/>
              </a:rPr>
              <a:t>Finally, the animal leaves the water and lives mainly on land, as a fro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4382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Bernard MT Condensed"/>
              </a:rPr>
              <a:t>Let’s see what we know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t’s take Profess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now-It-All’s Qui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nd see what we ha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rned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Bullwinkle_professor"/>
          <p:cNvPicPr/>
          <p:nvPr/>
        </p:nvPicPr>
        <p:blipFill>
          <a:blip r:embed="rId1"/>
          <a:stretch/>
        </p:blipFill>
        <p:spPr>
          <a:xfrm>
            <a:off x="6060960" y="2133720"/>
            <a:ext cx="18637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3366"/>
                </a:solidFill>
                <a:latin typeface="Arial"/>
              </a:rPr>
              <a:t>QUESTION #1</a:t>
            </a:r>
            <a:endParaRPr b="0" lang="en-US" sz="6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What are the two types of metamorphosi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3366"/>
                </a:solidFill>
                <a:latin typeface="Arial"/>
              </a:rPr>
              <a:t>QUESTION #2</a:t>
            </a:r>
            <a:endParaRPr b="0" lang="en-US" sz="6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ow many stages are there in incomplete metamorphosi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3366"/>
                </a:solidFill>
                <a:latin typeface="Arial"/>
              </a:rPr>
              <a:t>QUESTION #3</a:t>
            </a:r>
            <a:endParaRPr b="0" lang="en-US" sz="6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me the stages of incomplete metamorphosi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y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6200" spc="-1" strike="noStrike">
                <a:solidFill>
                  <a:srgbClr val="003366"/>
                </a:solidFill>
                <a:latin typeface="Bernard MT Condensed"/>
              </a:rPr>
              <a:t>What is metamorphosis?</a:t>
            </a:r>
            <a:endParaRPr b="0" lang="en-US" sz="6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osis refers to the way that certain organisms develop, grow, and change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osis actually means "change"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3366"/>
                </a:solidFill>
                <a:latin typeface="Arial"/>
              </a:rPr>
              <a:t>QUESTION #4</a:t>
            </a:r>
            <a:endParaRPr b="0" lang="en-US" sz="6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ow many stages are there in complete metamorphosi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swer: 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3366"/>
                </a:solidFill>
                <a:latin typeface="Arial"/>
              </a:rPr>
              <a:t>QUESTION #5</a:t>
            </a:r>
            <a:endParaRPr b="0" lang="en-US" sz="6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Name the stages in complete metamorpho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flycycle"/>
          <p:cNvPicPr/>
          <p:nvPr/>
        </p:nvPicPr>
        <p:blipFill>
          <a:blip r:embed="rId1"/>
          <a:stretch/>
        </p:blipFill>
        <p:spPr>
          <a:xfrm>
            <a:off x="2286000" y="1676520"/>
            <a:ext cx="4038480" cy="34671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QUESTION #6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447920" y="5181480"/>
            <a:ext cx="6705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dentify the cycle as complete or incomplete metamorphosi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QUESTION #7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447920" y="5181480"/>
            <a:ext cx="6705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dentify the cycle as complete or incomplete metamorphosi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INCM_DRG"/>
          <p:cNvPicPr/>
          <p:nvPr/>
        </p:nvPicPr>
        <p:blipFill>
          <a:blip r:embed="rId1"/>
          <a:stretch/>
        </p:blipFill>
        <p:spPr>
          <a:xfrm>
            <a:off x="2666880" y="1895400"/>
            <a:ext cx="32004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QUESTION #8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447920" y="5181480"/>
            <a:ext cx="6705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dentify each stage of the complete metamorphosis of the butterfl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metamrph"/>
          <p:cNvPicPr/>
          <p:nvPr/>
        </p:nvPicPr>
        <p:blipFill>
          <a:blip r:embed="rId1"/>
          <a:stretch/>
        </p:blipFill>
        <p:spPr>
          <a:xfrm>
            <a:off x="2362320" y="1828800"/>
            <a:ext cx="3657600" cy="32637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434340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30481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2438280" y="3276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3110400" y="1868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5548680" y="2325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5869080" y="3773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QUESTION #9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447920" y="5181480"/>
            <a:ext cx="6705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dentify the lifecycle of the frog as complete or incomplete metamorphosi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30481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1828440"/>
            <a:ext cx="7967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YOU’VE JUST COMPLETED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PROFESSOR KNOW-IT-ALL’S QUIZ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0" name="Picture 3" descr="CHEER2"/>
          <p:cNvPicPr/>
          <p:nvPr/>
        </p:nvPicPr>
        <p:blipFill>
          <a:blip r:embed="rId1"/>
          <a:stretch/>
        </p:blipFill>
        <p:spPr>
          <a:xfrm>
            <a:off x="2286000" y="2967120"/>
            <a:ext cx="2868480" cy="22701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5791320" y="3048120"/>
            <a:ext cx="274320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How di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you do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14320"/>
            <a:ext cx="8163000" cy="109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Bernard MT Condensed"/>
              </a:rPr>
              <a:t>Two Types of Metamorphosis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50560" y="2447640"/>
            <a:ext cx="779292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COMPLETE METAMORPH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as THREE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MPLETE METAMORPH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FOUR s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Bernard MT Condensed"/>
              </a:rPr>
              <a:t>INCOMPLETE METAMORPHOSIS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Let’s take a closer loo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at each stage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3366"/>
                </a:solidFill>
                <a:latin typeface="Bernard MT Condensed"/>
              </a:rPr>
              <a:t>3 STAGES OF</a:t>
            </a:r>
            <a:br>
              <a:rPr sz="5200"/>
            </a:br>
            <a:r>
              <a:rPr b="0" lang="en-US" sz="5200" spc="-1" strike="noStrike">
                <a:solidFill>
                  <a:srgbClr val="003366"/>
                </a:solidFill>
                <a:latin typeface="Bernard MT Condensed"/>
              </a:rPr>
              <a:t>INCOMPLETE METAMORPHOSIS</a:t>
            </a:r>
            <a:endParaRPr b="0" lang="en-US" sz="5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ymp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INCM_DRG"/>
          <p:cNvPicPr/>
          <p:nvPr/>
        </p:nvPicPr>
        <p:blipFill>
          <a:blip r:embed="rId1"/>
          <a:stretch/>
        </p:blipFill>
        <p:spPr>
          <a:xfrm>
            <a:off x="3733920" y="2228760"/>
            <a:ext cx="4114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3160" y="9903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99"/>
                </a:solidFill>
                <a:latin typeface="Arial"/>
              </a:rPr>
              <a:t>EGG</a:t>
            </a:r>
            <a:r>
              <a:rPr b="0" lang="en-US" sz="5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 female insect lays eggs. These eggs are often covered by an egg case which protects the eggs and holds them togethe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INCM_DRG"/>
          <p:cNvPicPr/>
          <p:nvPr/>
        </p:nvPicPr>
        <p:blipFill>
          <a:blip r:embed="rId1"/>
          <a:stretch/>
        </p:blipFill>
        <p:spPr>
          <a:xfrm>
            <a:off x="6019920" y="247680"/>
            <a:ext cx="2286000" cy="219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6553080" y="1828800"/>
          <a:ext cx="1067040" cy="762120"/>
        </p:xfrm>
        <a:graphic>
          <a:graphicData uri="http://schemas.openxmlformats.org/drawingml/2006/table">
            <a:tbl>
              <a:tblPr/>
              <a:tblGrid>
                <a:gridCol w="10670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a3123"/>
                      </a:solidFill>
                    </a:lnL>
                    <a:lnR w="38160">
                      <a:solidFill>
                        <a:srgbClr val="9a3123"/>
                      </a:solidFill>
                    </a:lnR>
                    <a:lnT w="38160">
                      <a:solidFill>
                        <a:srgbClr val="9a3123"/>
                      </a:solidFill>
                    </a:lnT>
                    <a:lnB w="38160">
                      <a:solidFill>
                        <a:srgbClr val="9a312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99"/>
                </a:solidFill>
                <a:latin typeface="Arial"/>
              </a:rPr>
              <a:t>NYMP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ggs hatch into nymph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mphs looks like small adults, but usually don't have w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ct nymphs eat the same food that the adult insect e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mphs shed or molt their exoskeletons (outer casings made up of a hard substance called chitin) and replace them with larger ones several times as they g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nymphs molt 4-8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NCM_DRG"/>
          <p:cNvPicPr/>
          <p:nvPr/>
        </p:nvPicPr>
        <p:blipFill>
          <a:blip r:embed="rId1"/>
          <a:stretch/>
        </p:blipFill>
        <p:spPr>
          <a:xfrm>
            <a:off x="6553080" y="304920"/>
            <a:ext cx="2286000" cy="219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6553080" y="304920"/>
          <a:ext cx="1524240" cy="152388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a3123"/>
                      </a:solidFill>
                    </a:lnL>
                    <a:lnR w="38160">
                      <a:solidFill>
                        <a:srgbClr val="9a3123"/>
                      </a:solidFill>
                    </a:lnR>
                    <a:lnT w="38160">
                      <a:solidFill>
                        <a:srgbClr val="9a3123"/>
                      </a:solidFill>
                    </a:lnT>
                    <a:lnB w="38160">
                      <a:solidFill>
                        <a:srgbClr val="9a312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99"/>
                </a:solidFill>
                <a:latin typeface="Arial"/>
              </a:rPr>
              <a:t>ADUL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insects stop molting when they reach their adult size. By this time, they have also grown wing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INCM_DRG"/>
          <p:cNvPicPr/>
          <p:nvPr/>
        </p:nvPicPr>
        <p:blipFill>
          <a:blip r:embed="rId1"/>
          <a:stretch/>
        </p:blipFill>
        <p:spPr>
          <a:xfrm>
            <a:off x="6553080" y="174600"/>
            <a:ext cx="2362320" cy="22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7848720" y="990720"/>
          <a:ext cx="1066680" cy="91440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a3123"/>
                      </a:solidFill>
                    </a:lnL>
                    <a:lnR w="38160">
                      <a:solidFill>
                        <a:srgbClr val="9a3123"/>
                      </a:solidFill>
                    </a:lnR>
                    <a:lnT w="38160">
                      <a:solidFill>
                        <a:srgbClr val="9a3123"/>
                      </a:solidFill>
                    </a:lnT>
                    <a:lnB w="38160">
                      <a:solidFill>
                        <a:srgbClr val="9a312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Bernard MT Condensed"/>
              </a:rPr>
              <a:t>COMPLETE METAMORPHOSIS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Let’s take a closer loo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at each stage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23:35:27Z</dcterms:created>
  <dc:creator>Lebanon Special School District</dc:creator>
  <dc:description/>
  <dc:language>en-US</dc:language>
  <cp:lastModifiedBy>lsanchez4</cp:lastModifiedBy>
  <dcterms:modified xsi:type="dcterms:W3CDTF">2011-05-04T13:48:27Z</dcterms:modified>
  <cp:revision>36</cp:revision>
  <dc:subject/>
  <dc:title>            Complete and                                       Incomplete Metamorphosis</dc:title>
</cp:coreProperties>
</file>